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954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81120" y="0"/>
            <a:ext cx="3954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2857680" y="514080"/>
            <a:ext cx="3420720" cy="25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69744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54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54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88591-5DFA-4391-A6F9-51F5C62E64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8576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ckground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quito from poster?  GMOD gears? GMOD Gears + GM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392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atrick Phillips donates office space for the help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576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857680" y="514440"/>
            <a:ext cx="3425760" cy="25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07C2-0BFC-49B8-A34F-41EBF698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644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69120"/>
            <a:ext cx="77644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3508-D6FB-445C-9CA9-BE66B23E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691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520" y="36691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56E-4ACD-41E2-B37E-92B5E523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0920" y="152388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400" y="152388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6912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0920" y="366912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400" y="366912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9D67-A8BD-4432-9419-A752335D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47C6-E29F-48F5-ABE4-540069B2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B919-0551-4233-A360-17F19A5A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70DD-B86D-474E-9D71-AC629C13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0D0-3D2D-40A7-9303-01648B3C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9200"/>
            <a:ext cx="7764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6C1-7058-460F-8A93-858084F7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691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7F9A-84CC-4169-8417-0952BB20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520" y="36691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8D16-0134-465A-862D-BE555146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69120"/>
            <a:ext cx="77644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4399-1766-4E0C-9960-E7DAA7A9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27B36-BA73-428A-A80A-1EBDAAD42D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320" y="6129360"/>
            <a:ext cx="914400" cy="67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amtools.sourceforge.net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32000"/>
            <a:ext cx="77724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Mee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6-7,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ford,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7440" y="5427720"/>
            <a:ext cx="2322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ott Cain, Ph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MOD Project Coordin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tario Institute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ncer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ott@scottcai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2240" y="268200"/>
            <a:ext cx="1712880" cy="1260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52920" y="5514840"/>
            <a:ext cx="2019240" cy="9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09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Gen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09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ed in GBrowse2; GBrowse1 may work with some finag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SAM/BAM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560" indent="-275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samtools.sourceforg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age XY-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ce density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al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Paired 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63360"/>
            <a:ext cx="77709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M/S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315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8840"/>
            <a:ext cx="777096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pal/Tr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36240"/>
            <a:ext cx="777096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pal: Widely used CMS, ver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al is a set of modules for Drupal to interact with a Chado data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ntegrate GBrowse/C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63360"/>
            <a:ext cx="77709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pal/Tr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14360" y="1190520"/>
            <a:ext cx="8354880" cy="56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895480" y="3271680"/>
            <a:ext cx="3846600" cy="2830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2920" y="1430280"/>
            <a:ext cx="196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HL/OI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don Mc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84720" y="2382840"/>
            <a:ext cx="17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n Hol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ch Sk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57680" y="26226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emson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hen Fick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4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interoperable tools for managing, annotating, and viewing genomic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 - genome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ollo - genome annotation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ap - comparative mapping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bil and GBrowse_syn - comparative genomics vie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many other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community of users and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s, semi-annual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52680" y="457200"/>
            <a:ext cx="425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M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09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'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09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Browse (formerly GBrowse 3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Gen sequencing support for GBrow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al/Dru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09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09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end rearchitectur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databases and render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AX track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configuratio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4673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77400"/>
            <a:ext cx="77691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09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09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complete re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JAX for client side rendering, Google Maps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gmod.org/wiki/JBrow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7400"/>
            <a:ext cx="776592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with GBrowse 1.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use of data adaptors/databases that GBrowse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7400"/>
            <a:ext cx="776592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400" y="1625760"/>
            <a:ext cx="9144000" cy="35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8840"/>
            <a:ext cx="777096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81200" y="1403280"/>
            <a:ext cx="7619760" cy="473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MOD / NESCent</dc:creator>
  <dc:description/>
  <dc:language>en-US</dc:language>
  <cp:lastModifiedBy>GMOD / NESCent</cp:lastModifiedBy>
  <cp:revision>0</cp:revision>
  <dc:subject/>
  <dc:title>PowerPoint Presentation</dc:title>
</cp:coreProperties>
</file>